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AE6C-AAC5-48B8-B877-D108DAB5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3336-597F-4A7B-940D-1217BD86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36F2-4197-47D3-8C56-B2DECEF0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E4CC-CB2C-4FDC-B439-F461A296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2F13-0111-466A-AB61-BE96EA86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915-0EEC-4035-82AD-2A494EF3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DD95-A522-4D48-BD23-10518137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CB25-80E9-45D0-8E98-68F9B833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B3EE-703C-4D67-940C-1C467186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C479-B538-4076-9CC9-A1930DC5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003-1E80-4660-8585-1FCFB031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C318-1549-44DC-B8FF-9D8884B4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7791-A9FB-473A-B8E0-29161338C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METHODOLOGIC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ISSUES IN EPI ?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001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5-01-10T19:55:40Z</dcterms:modified>
  <cp:revision>98</cp:revision>
  <dc:subject/>
  <dc:title>The Art in the State of the Art</dc:title>
</cp:coreProperties>
</file>